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ECF-EF1A-4547-9187-8F53878A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B18-EC85-4FE0-B8E1-3D79DD6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B01-C7CF-4BEB-90AD-F775584D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820-2C64-4E15-88DD-E64B06DE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9BF-B1F2-46FE-B1C2-7B5D9B95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43A0-D6C5-4301-8C54-E198F588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8CCA-A334-47E2-9AFB-3BA8566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ACCD-6345-4E94-B548-1DD074A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1A1E-EE66-4F2A-BAC6-A72B050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A4E1-BFF8-4885-BA06-166807D4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3C5D-EFC6-42D2-857C-5592D11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A7F-2939-40B9-A2DF-D006B19D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5EA9-7B19-473E-B999-9C08B83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7F4-8E36-4631-BEEB-4CB1A23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798C-E080-4B59-96E2-C60F2CD7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8EB-0EDB-49AD-98E0-75C1EF7F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A55B-CAAA-4E9B-BA9F-7EFA55FF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BAE-4906-4C46-8319-2559BA0D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75A-961B-4C64-92B3-1E1E25F5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599-3B42-4E31-96AF-BF6CF27C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ABA-2C82-4CF2-8F02-2C2038E9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2D0-4CD5-4DE2-B503-066F206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D35-3072-4D16-A5ED-2E23BFC1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D4F-CD2F-457B-B713-6962C541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3" descr="299_B_JuiceDrop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100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679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4B1A-D948-4AC9-B845-904A4B163C8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100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1FEB-3DAB-456A-98C6-3F2FEF9CE2C0}" type="slidenum">
              <a:rPr b="0" lang="en-US" sz="1400" spc="-1" strike="noStrike">
                <a:solidFill>
                  <a:srgbClr val="ffff66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Heroic Traits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in Classical Mythology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usually a demi-god, or has a god in his family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605560" y="1828800"/>
            <a:ext cx="2993760" cy="4267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5715000" y="62485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llustration of the “Statue of Zeus” a public image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has some kind of super-natural power or has the strong support of a god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607000" y="1828800"/>
            <a:ext cx="29908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486400" y="6004080"/>
            <a:ext cx="3048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Munich 2360, Attic red figure pelike, c. 410 B.C.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Athena and Hercules leave the funeral pyre, headed for Mount Olympus.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Photograph copyright Staatl. Antikensammlungen und Glyptothek, München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usually on a quest. He has a task or a challenge (or more than one) that an ordinary mortal could not carry out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205080" cy="4267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867280" y="5867280"/>
            <a:ext cx="266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Bust of “Odysseus” from Marie-Lan Nguyen/Wikimedia Commons.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always seeking fame, glory and most important, honor. These are more important than life itself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5365800" y="1994040"/>
            <a:ext cx="3473280" cy="3936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562720" y="60958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Drawing of “Ajax”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hero is braver, stronger, bolder and some times more clever than most men. He is close to the gods.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562720" y="62485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Bust of “Perseus”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5691240" y="1828800"/>
            <a:ext cx="282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hat is a Hero?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he hero usually has a weakness, usually too much pride or a terrible temper. This can lead to problems for him, and usually to his downfall.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365800" y="2606760"/>
            <a:ext cx="3473280" cy="270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715000" y="54864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mage of “Achilles” in battle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What makes a Modern Hero?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ravery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Puts others before self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trives to always “do what is right”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Honor?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715000" y="54864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mage of “Achilles” in battle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1"/>
          <a:stretch/>
        </p:blipFill>
        <p:spPr>
          <a:xfrm>
            <a:off x="5675400" y="1828800"/>
            <a:ext cx="2859120" cy="426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5715000" y="62485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Photo of fireman from www.worldofstock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What else is characteristic of  a modern day hero?</a:t>
            </a:r>
            <a:endParaRPr b="0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7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Directions:  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ith a partner, discuss what makes a person a hero?  Jot those ideas down in your Writer’s Notebook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reate your own definition of a hero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Make a list of people you and your partner would consider to be modern day hero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Be prepared to share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715000" y="54864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Image of “Achilles” in battle from clipart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5372280" y="1857240"/>
            <a:ext cx="3466800" cy="4210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638680" y="62485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Photo courtesy of wikipedia.com</a:t>
            </a: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3:02:54Z</dcterms:created>
  <dc:creator>Cody Edwards</dc:creator>
  <dc:description/>
  <dc:language>en-US</dc:language>
  <cp:lastModifiedBy>Angela Roundy</cp:lastModifiedBy>
  <dcterms:modified xsi:type="dcterms:W3CDTF">2008-10-11T06:36:00Z</dcterms:modified>
  <cp:revision>6</cp:revision>
  <dc:subject/>
  <dc:title>Hero Archetypes in Classical Mythology</dc:title>
</cp:coreProperties>
</file>